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0C95-0E47-490A-B23D-04B83F34C5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A5AF-DD81-4FBE-B1C6-EC1D4447C379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8244-CA57-4E2E-8424-8052DB762054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AFDB-47FD-4B4B-BF49-0E8E5308F61B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2DD4-24E4-4B43-91B0-3854CE1C96F3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BDCE-3966-488A-A0BC-A650487E2279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F90D-10AD-4511-8F01-8A4BE11F18E4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3B76-09D1-4E06-B96C-778A8D762CC3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D423-2AD3-4193-BBB3-B4CBC271C25C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DE3C-BD19-48D3-94C9-71B2467366C8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4D7C-EF0D-4A99-9CA1-B9764845D1BC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35F2-91A9-4A73-841A-16B0999A15D0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220C-362F-44CA-AD83-B35033D2D44D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BBF-9354-4676-AB3C-9A41001F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DC9-CA90-40C8-8AF6-8497EB43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C53-AA25-47B3-9397-7B2B768E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254-BBE3-4360-A2EE-84B72BEE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9BB-EA48-4CE8-AE4A-1278A0B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441-E815-4F70-8F6B-0A42B0D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32A-272F-4AFC-A24D-7F7687D2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978-D774-4228-9ADE-5A52BB63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669-DE88-4F5D-B40E-17186740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083-6B49-4A23-992A-AF5DD2E9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F77-2369-45D5-B63A-3534A88C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10E-0ED9-425D-B250-F0EF49A6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034B-24A1-4864-8D75-EC3110CECA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Feminizing of the medical prof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(Situation 10.11.2009)</a:t>
            </a: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medical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rcRect l="0" t="4390" r="54688" b="6026"/>
          <a:stretch/>
        </p:blipFill>
        <p:spPr>
          <a:xfrm>
            <a:off x="2268360" y="1484280"/>
            <a:ext cx="3529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outpatien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4000" y="278136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rcRect l="0" t="4314" r="54676" b="6114"/>
          <a:stretch/>
        </p:blipFill>
        <p:spPr>
          <a:xfrm>
            <a:off x="2627280" y="1413000"/>
            <a:ext cx="3600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hospit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278136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0" t="3951" r="53967" b="7318"/>
          <a:stretch/>
        </p:blipFill>
        <p:spPr>
          <a:xfrm>
            <a:off x="2340000" y="1484280"/>
            <a:ext cx="3529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Overall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6440" y="2349360"/>
            <a:ext cx="7492680" cy="2560320"/>
            <a:chOff x="766440" y="2349360"/>
            <a:chExt cx="7492680" cy="2560320"/>
          </a:xfrm>
        </p:grpSpPr>
        <p:sp>
          <p:nvSpPr>
            <p:cNvPr id="67" name=""/>
            <p:cNvSpPr/>
            <p:nvPr/>
          </p:nvSpPr>
          <p:spPr>
            <a:xfrm>
              <a:off x="1729800" y="245412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22040" y="24541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8480" y="287460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95240" y="287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n 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91200" y="287460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2240" y="287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n 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9640" y="3295440"/>
              <a:ext cx="1645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utpatient 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9040" y="32954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43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7000" y="32954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9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73360" y="32954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65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35560" y="32954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0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35600" y="32954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09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6040" y="3717720"/>
              <a:ext cx="892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ospita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9040" y="3717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70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7000" y="371772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92520" y="3717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40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35560" y="371772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9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35600" y="371772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10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8200" y="414000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7964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37000" y="414000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8.1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1312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3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35560" y="414000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1.9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7680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400" y="455904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700" spc="-1" strike="noStrike">
                  <a:solidFill>
                    <a:srgbClr val="000000"/>
                  </a:solidFill>
                  <a:latin typeface="Arial"/>
                </a:rPr>
                <a:t>Alltoge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028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1026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95600" y="45590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34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376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1938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94520" y="45590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65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744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2965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50200" y="244296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01600" y="24429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6440" y="2349360"/>
              <a:ext cx="74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6440" y="2349360"/>
              <a:ext cx="7492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6440" y="3182760"/>
              <a:ext cx="749268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6440" y="4457520"/>
              <a:ext cx="74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6440" y="4457520"/>
              <a:ext cx="7492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440" y="4868640"/>
              <a:ext cx="749268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Women’s ratio in students and grad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7794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Development of women in medical prac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itle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081920" cy="396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Practising women’s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itle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4360" y="1700280"/>
            <a:ext cx="7369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Women’s progression by  sectors of medic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29792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Tendency of women’s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77058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Women’s ratio in     speci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itle 1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1280" y="1484280"/>
            <a:ext cx="7490880" cy="4534920"/>
            <a:chOff x="611280" y="1484280"/>
            <a:chExt cx="7490880" cy="4534920"/>
          </a:xfrm>
        </p:grpSpPr>
        <p:graphicFrame>
          <p:nvGraphicFramePr>
            <p:cNvPr id="170" name=""/>
            <p:cNvGraphicFramePr/>
            <p:nvPr/>
          </p:nvGraphicFramePr>
          <p:xfrm>
            <a:off x="611280" y="1484280"/>
            <a:ext cx="7490880" cy="4534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280" y="1484280"/>
                      <a:ext cx="7490880" cy="45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5137560" y="2230560"/>
              <a:ext cx="0" cy="24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74840" y="406152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05080" y="45684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75960" y="30052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30440" y="247716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65920" y="194904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55840" y="43102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7320" y="325404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3840" y="48268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08080" y="379152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17720" y="35334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200" y="27468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7200" y="5087160"/>
              <a:ext cx="0" cy="24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5480" y="53550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Swis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rcRect l="0" t="4082" r="54688" b="7563"/>
          <a:stretch/>
        </p:blipFill>
        <p:spPr>
          <a:xfrm>
            <a:off x="2411280" y="1557360"/>
            <a:ext cx="388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02:43Z</dcterms:created>
  <dc:creator>user</dc:creator>
  <dc:description/>
  <dc:language>en-US</dc:language>
  <cp:lastModifiedBy>user</cp:lastModifiedBy>
  <dcterms:modified xsi:type="dcterms:W3CDTF">2010-05-11T12:36:37Z</dcterms:modified>
  <cp:revision>5</cp:revision>
  <dc:subject/>
  <dc:title> </dc:title>
</cp:coreProperties>
</file>